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8AAC-1741-46FE-B0B7-5F11DC8D5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A841-73D3-49B2-8CF6-43B7C3CE2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260-AACB-401B-89F6-32884E8F5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CAA-7086-4745-BD66-618987FB6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9BD7-B8A6-43B1-8907-1D03D5D14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F84-86C4-446A-98F7-F372BE457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242-C1BF-4C85-B905-6C695EF3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3BE-7925-4B76-8DA3-600B29B2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B5A-B26E-440C-B1D0-05356AC8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365-292F-4D80-9520-4B6DCDAA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0D0-AD6D-4ED5-A596-9D9B960C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7DC-A1FB-4897-B537-B5EF512D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6DB-83A5-49B7-A712-9D09AEFC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98D-E29D-4DEF-8427-18AA5EF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205-C1AA-4F97-931F-E5E6FEDE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875-A2B2-42B0-AE4B-F434F1C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24E-B133-4A82-BEC9-467C4D1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518-CB99-4751-941D-48B6451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526-16E5-4079-91D0-6F0C70DE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s3.amazonaws.com/SpotJots/Jots/fooding.1207983256000.hamburger.jpg&amp;imgrefurl=http://www.americanidol.com/myidol/blogs/view/%3Fun%3D44oberman%26eid%3D261052&amp;usg=__yOx8JMrrJ9PbmgAhCeU_SEZe-6w=&amp;h=863&amp;w=1040&amp;sz=37&amp;hl=en&amp;start=1&amp;sig2=kYgM3-dZ_3FBZ4UBzYga_A&amp;um=1&amp;tbnid=1JLVN478nWgTMM:&amp;tbnh=124&amp;tbnw=150&amp;ei=9MxISeHAMpTcwgGOuplM&amp;prev=/images%3Fq%3Dhamburger%26um%3D1%26hl%3Den%26rlz%3D1T4GGIH_en-GBGB261GB261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oxgangs.ik.org/img/gymnastics_pic.gif&amp;imgrefurl=http://www.oxgangs.ik.org/gallery/1136862820.ikml&amp;usg=__3fTH-BkDwl79vGQ3MwDWx2vdGec=&amp;h=379&amp;w=490&amp;sz=6&amp;hl=en&amp;start=13&amp;sig2=w5pft-w1NSIiLBIpw8xIRA&amp;um=1&amp;tbnid=GpDLCankYSgYVM:&amp;tbnh=101&amp;tbnw=130&amp;ei=H81IScnvJI6WwQHe1u1Q&amp;prev=/images%3Fq%3Dgymnastics%26um%3D1%26hl%3Den%26rlz%3D1T4GGIH_en-GBGB261GB26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upercoolgifts.co.uk/acatalog/Light_up_footballs.jpg&amp;imgrefurl=http://www.supercoolgifts.co.uk/acatalog/Colour_changing_led_football____6_99.html&amp;usg=__90QFrUyNu7Ce-ENeC-YluWkXWUw=&amp;h=450&amp;w=450&amp;sz=37&amp;hl=en&amp;start=7&amp;sig2=mW77376870tzbSP-ySTWgg&amp;um=1&amp;tbnid=e0pf3Czcpryv9M:&amp;tbnh=127&amp;tbnw=127&amp;ei=Ts1ISdCxIYW4wQHFwfVU&amp;prev=/images%3Fq%3Dfootball%26um%3D1%26hl%3Den%26rlz%3D1T4GGIH_en-GBGB261GB26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amphotobank.com/d/3312-1/anfield_1_1024x768.jpg&amp;imgrefurl=http://www.siamphotobank.com/main.php%3Fg2_view%3Dslideshow.Slideshow%26g2_itemId%3D650&amp;usg=__SsjBZxHYI-KdFWGI7994HYCbtBY=&amp;h=768&amp;w=1024&amp;sz=128&amp;hl=en&amp;start=1&amp;sig2=vJORjzb54SIQ0vqqcPzEug&amp;um=1&amp;tbnid=6_CeduytS3TTXM:&amp;tbnh=113&amp;tbnw=150&amp;ei=7c1IScrxI5vIwQGH_bxJ&amp;prev=/images%3Fq%3DAnfield%26um%3D1%26hl%3Den%26rlz%3D1T4GGIH_en-GBGB261GB261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images.quickblogcast.com/92912-88346/real_madrid_logo.png&amp;imgrefurl=http://italiansoccerseriea.com/2008/10/20/results-uefa-champions-league-group-stage-h-matchday-3--fc-juventus--real-madrid.aspx&amp;usg=__JczfL92oaGKp4lwuYVSdEFatrRI=&amp;h=599&amp;w=428&amp;sz=114&amp;hl=en&amp;start=1&amp;sig2=lDfrPH566X_xxkEtp6TjpA&amp;um=1&amp;tbnid=NVhtjtZTMaK-JM:&amp;tbnh=135&amp;tbnw=96&amp;ei=-M5ISfmDCKbIwgGFkJBK&amp;prev=/images%3Fq%3DReal%2BMadrid%26um%3D1%26hl%3Den%26rlz%3D1T4GGIH_en-GBGB261GB26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333360"/>
            <a:ext cx="79200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pairs, work out how to say the following phrases, IN SPA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like playing football because it’s soc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am going to do gym because it’s good for the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going to go to Barnstaple because it’s f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believe that (check your present tense sheets) playing handball is important in Spain [en Esp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ña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3141720"/>
            <a:ext cx="79200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 gusta jugar al f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útbol porque es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oy a practicar la gimnasia porque es bien para la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mos a ir a Barnstaple porque es divert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o que jugar al balonmano es importante en Esp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giving opinions of leis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work together to make posters about how often people do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how to say how often you do differ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979640" y="692280"/>
            <a:ext cx="5472000" cy="703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a estar en form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20716800">
            <a:off x="331920" y="2114640"/>
            <a:ext cx="490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s importante de practicar muchos deportes-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ENUDO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 rot="1483800">
            <a:off x="4716000" y="4220640"/>
            <a:ext cx="41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Personalmente me encanta practicar la gimnasia dos veces por semana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843280" y="5877000"/>
            <a:ext cx="41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Tengo que jugar al 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útbol cada día- es muy divertido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 rot="544800">
            <a:off x="925200" y="4479480"/>
            <a:ext cx="45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¿Hamburguesas? No, casi nunca- no son buenas para la salud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 rot="20655600">
            <a:off x="4572000" y="213372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¿Drogas? Les probé una vez, pero son horribles, ¡urgh!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foo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300640"/>
            <a:ext cx="142884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gymnastics_pi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2997360"/>
            <a:ext cx="1655640" cy="128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Light_up_footbal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87640" y="3068640"/>
            <a:ext cx="1209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55640" y="0"/>
            <a:ext cx="799308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Wh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a vez por sem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ce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s ve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or m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wice a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fin de sem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we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vie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’s 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sa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st (p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enu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e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guie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óxi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i nunc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most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W TRY TO DESCRIBE HOW OFTEN YOU DO DIFFERENT LEIUR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187280" y="333360"/>
            <a:ext cx="6840720" cy="9320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0000"/>
                </a:solidFill>
                <a:latin typeface="Arial"/>
              </a:rPr>
              <a:t>El estadio de Anfiel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1628640"/>
            <a:ext cx="835164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fin de semana que vie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GRAN PARTI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ERPOOL CONTRA REAL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radas a vender: lunes 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ábado , 11h00- 18h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dultos: €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iños: €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p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ximo partido a Anfield será el domingo siguiente contra Manchester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anfield_1_1024x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149720"/>
            <a:ext cx="2232360" cy="168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real_madrid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189000"/>
            <a:ext cx="91440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liverpool-fc-crest"/>
          <p:cNvPicPr/>
          <p:nvPr/>
        </p:nvPicPr>
        <p:blipFill>
          <a:blip r:embed="rId5"/>
          <a:stretch/>
        </p:blipFill>
        <p:spPr>
          <a:xfrm>
            <a:off x="179280" y="260280"/>
            <a:ext cx="9050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9:52:02Z</dcterms:created>
  <dc:creator>Owner1</dc:creator>
  <dc:description/>
  <dc:language>en-US</dc:language>
  <cp:lastModifiedBy>Chris</cp:lastModifiedBy>
  <dcterms:modified xsi:type="dcterms:W3CDTF">2009-01-26T12:52:39Z</dcterms:modified>
  <cp:revision>14</cp:revision>
  <dc:subject/>
  <dc:title>Slide 1</dc:title>
</cp:coreProperties>
</file>